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41E-5917-47D8-929E-6A129BAB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9B2-8BE2-4255-9FB7-0EB7DE24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56A-4721-48DF-9CCF-6C57DBEF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419-555C-47F7-A7B1-9597868C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88C-3AC9-40EF-9E55-AA56548C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FAA-BAB8-4F3E-B2E8-37F7BAA8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DD5-9A00-4755-9BA8-FCC12472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DB7-15AA-4B49-AA21-1D6F68AB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E85-66E7-4455-806E-A80ECC69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ECC-4E01-4CE9-A167-25519240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D28-395F-4227-8AB5-E2407C25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8F2-B616-4781-9040-4AA4B077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F442-981B-4558-AE22-D5E7EEC16A8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r çiçek buldum mektupların arasında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ooperatife gireceğiz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Film izlemeye gitmişsi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blası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programda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yarışaca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İki saat çalıştı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imde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unutacağız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albimizi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f"/>
          </a:solidFill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KURU YAPRAK, YEŞERİR Mİ?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O GÜN ANLADIM GERÇEĞİ. 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MERHAMET ETMİYORSUN HİÇ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BUGÜN YÜRÜYECEKLER DAĞDAN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NİYE KÜSTÜK BİRBİRİMİ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orku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yaşatıyoruz çocuklar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Virajlı yollardan geçti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Biletçi avaz avaz bağırıyo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Anneme çiçek yaptırd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ilesi onu sev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Sarı laleler aldım sana pazarda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dam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televizyonu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onarmış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Patronu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yanına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gitt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9:25:54Z</dcterms:modified>
  <cp:revision>94</cp:revision>
  <dc:subject/>
  <dc:title>KONU 1</dc:title>
</cp:coreProperties>
</file>